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2F7-BEF2-4EF6-8974-AE277A42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004-EF95-4561-8629-B0CD63DC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B81-86A9-4DB1-89D6-4063D5D0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851-AB13-4896-9EEB-13D74707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D8C-0005-4DF9-9B66-FE9899C5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B4C-4E18-4143-9D33-25104DC9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BBC-68AF-4EFC-B402-E57CE7BE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E7D-ACCE-49F7-9DD8-890B73F2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58F-5D9D-47C3-8513-BECD4737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1EF-0F72-4209-9884-2342A5E9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2EA-735E-4B98-8B2E-858F1009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980-B909-469A-B3DB-017A037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C9ED-C101-47A8-9344-34031560857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482760" y="90792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 DEL 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ETAPAS. ENZIMAS REGULADORAS. BLOQUEO METABÓLICO EN LA VÍA DE SÍNTESIS. COMENTARIO CLÍN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HEM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BILIRRUBINA DIRECTA E INDIRECTA. ETAPA INTESTINAL. ICTERICIAS. ALTERACIONES EN PROCESOS PAT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3119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11240" y="76500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56" name="1 CuadroTexto"/>
          <p:cNvSpPr/>
          <p:nvPr/>
        </p:nvSpPr>
        <p:spPr>
          <a:xfrm>
            <a:off x="1730160" y="608328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ALA DEHIDRASA (Zinc) 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 alto contenido de grupos -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2 CuadroTexto"/>
          <p:cNvSpPr/>
          <p:nvPr/>
        </p:nvSpPr>
        <p:spPr>
          <a:xfrm>
            <a:off x="7720920" y="45784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7200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2884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1 Flecha derecha"/>
          <p:cNvSpPr/>
          <p:nvPr/>
        </p:nvSpPr>
        <p:spPr>
          <a:xfrm>
            <a:off x="4352760" y="2565360"/>
            <a:ext cx="522360" cy="1429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6 Conector angular"/>
          <p:cNvCxnSpPr/>
          <p:nvPr/>
        </p:nvCxnSpPr>
        <p:spPr>
          <a:xfrm flipV="1" rot="10800000">
            <a:off x="3707640" y="3283560"/>
            <a:ext cx="2016720" cy="649800"/>
          </a:xfrm>
          <a:prstGeom prst="bentConnector3">
            <a:avLst>
              <a:gd name="adj1" fmla="val 49991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8000" y="446040"/>
            <a:ext cx="53280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04036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4360" y="519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121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878040" y="0"/>
            <a:ext cx="70070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Rectángulo"/>
          <p:cNvSpPr/>
          <p:nvPr/>
        </p:nvSpPr>
        <p:spPr>
          <a:xfrm>
            <a:off x="611280" y="476280"/>
            <a:ext cx="80010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rbel"/>
              </a:rPr>
              <a:t>Porfiri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as son un grupo de trastornos provocados por deficiencias de las enzimas implicadas en la síntesis del 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Hay excesiva acumulación y excreción de porfirinas y sus precur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nas son compuestos químicos que juegan un rol fundamental en los sistemas vivientes por sus propiedades físicas, químicas y biológ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sotw9_temp0"/>
          <p:cNvPicPr/>
          <p:nvPr/>
        </p:nvPicPr>
        <p:blipFill>
          <a:blip r:embed="rId1"/>
          <a:stretch/>
        </p:blipFill>
        <p:spPr>
          <a:xfrm>
            <a:off x="642960" y="642960"/>
            <a:ext cx="7970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359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-182520"/>
            <a:ext cx="8280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ORFIRIAS ADQUIR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SATURN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s una enfermedad ocupacional (fábricas de acumuladores, pinturerías, etc.), producida por intoxicación con plomo, este es neurotóxico, se acumula en hígado y hues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traviesa la placenta y en niños se ha observado mayor sensibil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as vías de entrada pueden ser: inhalación, ingestión o absorción cután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l mecanismo de acción del plomo es inhibir la ALA-D oxidando sus grupos sulfhidrilos, desplazando al Zinc y ocupando su lug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285840" y="1000080"/>
            <a:ext cx="8429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Los síntomas clínicos son</a:t>
            </a: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onvulsiones hasta el com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esórdenes del comportamient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aráli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nemia (reticulocitosis y punteado basófil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 altera la biosíntesis del hem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efropatías, gota, cáncer, esterilidad, abor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488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16000" y="84312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6767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7704360" cy="5778360"/>
          </a:xfrm>
          <a:prstGeom prst="rect">
            <a:avLst/>
          </a:prstGeom>
          <a:ln w="0">
            <a:noFill/>
          </a:ln>
        </p:spPr>
      </p:pic>
      <p:sp>
        <p:nvSpPr>
          <p:cNvPr id="77" name="1 Elipse"/>
          <p:cNvSpPr/>
          <p:nvPr/>
        </p:nvSpPr>
        <p:spPr>
          <a:xfrm>
            <a:off x="4356000" y="2492280"/>
            <a:ext cx="395280" cy="360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46640" y="5373720"/>
            <a:ext cx="414360" cy="37764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395280" y="414828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igmento amarillo-naranja, tóxico pasa a sangre, difunde a través de membranas, insoluble en 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CuadroTexto"/>
          <p:cNvSpPr/>
          <p:nvPr/>
        </p:nvSpPr>
        <p:spPr>
          <a:xfrm>
            <a:off x="579636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030480" y="517032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493272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3924720" y="5170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00000" y="70488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0" y="3087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1 CuadroTexto"/>
          <p:cNvSpPr/>
          <p:nvPr/>
        </p:nvSpPr>
        <p:spPr>
          <a:xfrm>
            <a:off x="468360" y="836640"/>
            <a:ext cx="820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En la etapa hepática bilirrubina se separa de albúmina y entra por difusión facilitada: bilitransloca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lirrubina en el citosol se une a Ligandina o Proteína Y (glutatión s- transferas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conjugación se lleva a cabo en el R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bilirrubina conjugada es hidrosoluble, así es excretada y vehiculizada por bil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26920" y="627120"/>
            <a:ext cx="7129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19000" y="62064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91960" y="-9360"/>
            <a:ext cx="8558280" cy="687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5084640"/>
            <a:ext cx="2590920" cy="67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611280" y="4446720"/>
            <a:ext cx="334800" cy="628560"/>
          </a:xfrm>
          <a:prstGeom prst="rect">
            <a:avLst/>
          </a:prstGeom>
          <a:ln w="0">
            <a:noFill/>
          </a:ln>
        </p:spPr>
      </p:pic>
      <p:sp>
        <p:nvSpPr>
          <p:cNvPr id="91" name="1 Rectángulo"/>
          <p:cNvSpPr/>
          <p:nvPr/>
        </p:nvSpPr>
        <p:spPr>
          <a:xfrm>
            <a:off x="4570560" y="5761080"/>
            <a:ext cx="317016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4016520" y="5267160"/>
            <a:ext cx="3724200" cy="4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3430440" y="3882960"/>
            <a:ext cx="1170000" cy="1384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3635280" y="5816520"/>
            <a:ext cx="1420920" cy="49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7"/>
          <a:stretch/>
        </p:blipFill>
        <p:spPr>
          <a:xfrm>
            <a:off x="3548160" y="6310440"/>
            <a:ext cx="20113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2627280" y="803160"/>
            <a:ext cx="13683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4000" y="92160"/>
            <a:ext cx="8569080" cy="672768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2124000" y="0"/>
            <a:ext cx="15843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2195640" y="5373720"/>
            <a:ext cx="9363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68360" y="163440"/>
            <a:ext cx="8136000" cy="6475320"/>
          </a:xfrm>
          <a:prstGeom prst="rect">
            <a:avLst/>
          </a:prstGeom>
          <a:ln w="0">
            <a:noFill/>
          </a:ln>
        </p:spPr>
      </p:pic>
      <p:sp>
        <p:nvSpPr>
          <p:cNvPr id="101" name="2 Rectángulo"/>
          <p:cNvSpPr/>
          <p:nvPr/>
        </p:nvSpPr>
        <p:spPr>
          <a:xfrm>
            <a:off x="1692360" y="6453360"/>
            <a:ext cx="7189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Rectángulo"/>
          <p:cNvSpPr/>
          <p:nvPr/>
        </p:nvSpPr>
        <p:spPr>
          <a:xfrm>
            <a:off x="4570560" y="765000"/>
            <a:ext cx="1585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8200" cy="6365880"/>
          </a:xfrm>
          <a:prstGeom prst="rect">
            <a:avLst/>
          </a:prstGeom>
          <a:ln w="0">
            <a:noFill/>
          </a:ln>
        </p:spPr>
      </p:pic>
      <p:sp>
        <p:nvSpPr>
          <p:cNvPr id="104" name="2 Rectángulo"/>
          <p:cNvSpPr/>
          <p:nvPr/>
        </p:nvSpPr>
        <p:spPr>
          <a:xfrm>
            <a:off x="4859280" y="235080"/>
            <a:ext cx="165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258920" y="912960"/>
            <a:ext cx="6192720" cy="4703760"/>
          </a:xfrm>
          <a:prstGeom prst="rect">
            <a:avLst/>
          </a:prstGeom>
          <a:ln w="0">
            <a:noFill/>
          </a:ln>
        </p:spPr>
      </p:pic>
      <p:sp>
        <p:nvSpPr>
          <p:cNvPr id="46" name="1 CuadroTexto"/>
          <p:cNvSpPr/>
          <p:nvPr/>
        </p:nvSpPr>
        <p:spPr>
          <a:xfrm>
            <a:off x="3558600" y="580536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HEMOGLOBINA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44680" y="112536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UNA FERROPORFI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S EL GRUPO PROSTÉTICO DE MOLÉCULAS DE GRAN IMPORTANCIA FUNCIONAL LLAMADAS: HEMOPROTEÍ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 FORM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- CICLO TETRAPIRRÓLICO DERIVADO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OTOPORFIRI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26920" y="608040"/>
            <a:ext cx="7699680" cy="5629320"/>
          </a:xfrm>
          <a:prstGeom prst="rect">
            <a:avLst/>
          </a:prstGeom>
          <a:ln w="0">
            <a:noFill/>
          </a:ln>
        </p:spPr>
      </p:pic>
      <p:sp>
        <p:nvSpPr>
          <p:cNvPr id="49" name="1 CuadroTexto"/>
          <p:cNvSpPr/>
          <p:nvPr/>
        </p:nvSpPr>
        <p:spPr>
          <a:xfrm>
            <a:off x="1076040" y="5837400"/>
            <a:ext cx="64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TALASAS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EROX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23960" y="54936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523800"/>
            <a:ext cx="8539200" cy="607392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8680" y="6031080"/>
            <a:ext cx="37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ADICIÓN DEL HIER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12:38Z</dcterms:created>
  <dc:creator>Preferred Customer</dc:creator>
  <dc:description/>
  <dc:language>en-US</dc:language>
  <cp:lastModifiedBy>Fanny Zirulnik</cp:lastModifiedBy>
  <dcterms:modified xsi:type="dcterms:W3CDTF">2016-10-13T21:44:38Z</dcterms:modified>
  <cp:revision>5</cp:revision>
  <dc:subject/>
  <dc:title>Presentación de PowerPoint</dc:title>
</cp:coreProperties>
</file>